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67F-597B-42E1-9274-FA971C16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B8B-B419-4BD6-AA0B-7AEE5FE2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450-31B1-4912-89B9-08302471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AA7-2F29-4242-B945-772AEEDF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1AE-B73F-400B-9DBE-120EA528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4E9-1BB9-4664-AB59-5AAF5C1E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FDD-AFBF-40C6-BA27-0D65799F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11A-C27C-437A-8F04-C88A2D8A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60C-1815-4ABD-A048-2DF64602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375-7F40-4C4C-9DCA-C60246D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723-B1D8-467B-BDE7-3A1A4AD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2E3-BDDD-4421-BCB5-0BE40295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2142-D753-4CB1-BBED-86719D44C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y Auc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s known for its bitter winters . The country’s harsh climate helped stop      various invaders during its history, including the large armies of Napoleon in 1812 and Adolf Hit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44:53Z</dcterms:created>
  <dc:creator> </dc:creator>
  <dc:description/>
  <dc:language>en-US</dc:language>
  <cp:lastModifiedBy> </cp:lastModifiedBy>
  <dcterms:modified xsi:type="dcterms:W3CDTF">2010-12-14T17:02:14Z</dcterms:modified>
  <cp:revision>2</cp:revision>
  <dc:subject/>
  <dc:title>Climate</dc:title>
</cp:coreProperties>
</file>